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1F3-A45F-441E-BCFC-0EFC3E1E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55B-A016-457F-8327-EB8DB7E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9BB-D6B8-4C52-8ACB-EC26ADCA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7D0-4EBE-4A4E-BA7B-593C8C35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2D1-73B5-48C7-B7F9-DBB7DD9F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E28-6FFC-4321-BABA-3B8B850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E7E-F640-4109-904C-C68AB23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BD9-94F6-4FDD-A1C1-3A75034E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1FB-A0CC-4571-A8AE-72F50162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0C1-0B1D-49F2-B38A-783746B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D99-E0F6-4D71-BE89-EB0BFE5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B69-0CF8-4342-8DCB-E654B3A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933B-C25A-4459-A608-769683DD0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Social Media awareness campaig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2015640"/>
            <a:ext cx="368784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ve of online communications channels dedicated to community-based input, interaction, content-sharing and collabo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dvantages of Social Media Marketing for your business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Brand Awareness as social media is one of the most cost-efficient digital marketing methods used to syndicate content and increase your business’ vi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Customer Satisfaction through easier feedback chann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-Effective as social media marketing is possibly the most cost-efficient part of an advertising strate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advantages of social med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tatistic figures for social media platform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28560" y="1825560"/>
          <a:ext cx="7886880" cy="25956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media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les 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males 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sAp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ter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gr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07:02:45Z</dcterms:created>
  <dc:creator>Bazira Paul</dc:creator>
  <dc:description/>
  <dc:language>en-US</dc:language>
  <cp:lastModifiedBy>Bazira Paul</cp:lastModifiedBy>
  <dcterms:modified xsi:type="dcterms:W3CDTF">2018-08-06T13:25:43Z</dcterms:modified>
  <cp:revision>6</cp:revision>
  <dc:subject/>
  <dc:title>PowerPoint Presentation</dc:title>
</cp:coreProperties>
</file>